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BEB0-EF29-477D-8D77-42CCA8CD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737-E009-475E-9AEF-0CF0A077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E017-3217-4DD9-88D3-C42E37A7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6574-94E3-45E0-B052-B1D8A28CA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0BE2-0C04-4B96-9A86-D0F8C066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857F-E5DE-40A9-84DA-7DC21FCD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DF74-79A8-4A05-9C11-BA09AC0F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CDF5-73F2-462F-8355-4B1B3407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631C-D89D-4875-A15A-30C160E4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E838-349D-4205-8944-10568A69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15D9-F24B-4A31-B85D-E4E43EB9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0CB9-361F-4E05-96D5-132E8F20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7405-01C2-4344-A4EA-2C55DF85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7106-81BB-44F8-BC24-ACF034B8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219B-26C9-4207-B5E9-69C942E0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6A50-7F39-455D-8087-D8B7C16D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5370-2BF5-45F7-816F-0C532E1D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C3CF-93BB-4625-BE78-C288EAE3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709C-92B7-4BCD-AAB1-9F6F7250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A0B9-4C75-4F24-B27A-CFF426E5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06A0-DF4A-4A73-970A-C1E03FAB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AC09-B49B-4825-A9AE-F61E515F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95D4-21A1-4B25-ACF3-AA147EB0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41F6-E911-4BD8-A98E-9068D90A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8245-380C-4D8B-9CE1-85030C3888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AB83-7D0E-4B98-A929-50848904D17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errar el trat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3765240"/>
            <a:ext cx="8001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os para cerrar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to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ga el 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erre el trato con 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Sintonice la radio en QHPM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é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y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la emisora favorita, y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que su cliente escu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érdeles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ábleles sólo acerca de cómo les va a ayudar este tr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Exponga el trat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idad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ha presentado una posible solución a su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se ha ganado el derecho a pedirles que compren la solución recomendada... ¡Pues pídase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Deje de ven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han pedido que se lo facilite, ¡y ya lo ha he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nto más hable, más pensarán que no está satisfecho con la solución ofre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hablar y permítales que deci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ierre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los clientes creen que usted tiene confianza en su solución, ellos también la tend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za es producto de la prepa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la presentación final y prepare respuestas para posibles obje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45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